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0E59-40B0-4CB5-B9CE-8ED9CE32D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52FB-D6A6-4624-B8F7-DE21B58C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541C-A8E1-4DBB-B49B-38D2A2EBA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582D-D57F-4DA3-A10B-D67478108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F4E7-D673-4569-BE44-4063B17B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053E-167D-48E3-8087-9B1A6D9A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CA58-9F60-4F18-ABD0-A2A63446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29FA-82BD-448A-A6EA-B64D8526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C6A5-946C-4B3B-A6C5-80948D7F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8003-5265-4820-86BC-F6C1DC78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2524-5C21-4FE7-AF00-0484E25F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613A-FBEC-424A-BB64-871DE169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B9C2-16E9-40B7-A4D1-570E49FB01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Times New Roman"/>
              </a:rPr>
              <a:t>Пусть путь к знаниям озаряет  солнце! Успеха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" descr="C:\Users\школа\Desktop\001 (1).jpg"/>
          <p:cNvPicPr/>
          <p:nvPr/>
        </p:nvPicPr>
        <p:blipFill>
          <a:blip r:embed="rId1"/>
          <a:stretch/>
        </p:blipFill>
        <p:spPr>
          <a:xfrm>
            <a:off x="684360" y="1981080"/>
            <a:ext cx="7632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не  Декарт - французский математик, физик и философ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  впервые  признал отрицательные числа. Ввел координатную прямую (1637г). Положительные числа изображаются на числовой оси точками, лежащими вправо от начала, отрицательные – влево.</a:t>
            </a: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Содержимое 3" descr="C:\Users\школа\Desktop\i.jpg"/>
          <p:cNvPicPr/>
          <p:nvPr/>
        </p:nvPicPr>
        <p:blipFill>
          <a:blip r:embed="rId1"/>
          <a:stretch/>
        </p:blipFill>
        <p:spPr>
          <a:xfrm>
            <a:off x="5580000" y="2421000"/>
            <a:ext cx="3294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4"/>
          <p:cNvSpPr txBox="1"/>
          <p:nvPr/>
        </p:nvSpPr>
        <p:spPr>
          <a:xfrm>
            <a:off x="900000" y="2421000"/>
            <a:ext cx="763272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ействия с рациональными числам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WordArt 5"/>
          <p:cNvSpPr txBox="1"/>
          <p:nvPr/>
        </p:nvSpPr>
        <p:spPr>
          <a:xfrm rot="18561600">
            <a:off x="1692360" y="4365360"/>
            <a:ext cx="933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5+7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7" name="WordArt 6"/>
          <p:cNvSpPr txBox="1"/>
          <p:nvPr/>
        </p:nvSpPr>
        <p:spPr>
          <a:xfrm rot="1715400">
            <a:off x="6516360" y="4581360"/>
            <a:ext cx="933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16 : 8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WordArt 7"/>
          <p:cNvSpPr txBox="1"/>
          <p:nvPr/>
        </p:nvSpPr>
        <p:spPr>
          <a:xfrm rot="20598600">
            <a:off x="1468440" y="1061640"/>
            <a:ext cx="996840" cy="55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4 - 7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WordArt 8"/>
          <p:cNvSpPr txBox="1"/>
          <p:nvPr/>
        </p:nvSpPr>
        <p:spPr>
          <a:xfrm rot="999600">
            <a:off x="6927480" y="1044720"/>
            <a:ext cx="996840" cy="73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5 - (-8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WordArt 9"/>
          <p:cNvSpPr txBox="1"/>
          <p:nvPr/>
        </p:nvSpPr>
        <p:spPr>
          <a:xfrm rot="21305400">
            <a:off x="4211640" y="1780920"/>
            <a:ext cx="1149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21 : (-3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539640" y="476280"/>
            <a:ext cx="8280360" cy="5905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</a:rPr>
              <a:t>Повторяем  правила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042920" y="2349360"/>
            <a:ext cx="71294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6"/>
          <p:cNvSpPr txBox="1"/>
          <p:nvPr/>
        </p:nvSpPr>
        <p:spPr>
          <a:xfrm>
            <a:off x="324000" y="404640"/>
            <a:ext cx="40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5919840" y="71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4932360" y="765000"/>
            <a:ext cx="36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4 +(-5) = -9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8 +(-5) = 13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- (-6) = 14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15 : (-3) = 5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 · (-6) = 24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8 + 10 = -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16 + 9 = -6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17 – (-9) = -8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9 + (-5) = 14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-8) · (-4) = -3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4859280" y="692280"/>
            <a:ext cx="3241800" cy="5761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WordArt 10"/>
          <p:cNvSpPr txBox="1"/>
          <p:nvPr/>
        </p:nvSpPr>
        <p:spPr>
          <a:xfrm>
            <a:off x="7380360" y="1197000"/>
            <a:ext cx="504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13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WordArt 11"/>
          <p:cNvSpPr txBox="1"/>
          <p:nvPr/>
        </p:nvSpPr>
        <p:spPr>
          <a:xfrm>
            <a:off x="7308720" y="1638360"/>
            <a:ext cx="358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5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WordArt 12"/>
          <p:cNvSpPr txBox="1"/>
          <p:nvPr/>
        </p:nvSpPr>
        <p:spPr>
          <a:xfrm>
            <a:off x="7308720" y="2349360"/>
            <a:ext cx="432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24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WordArt 13"/>
          <p:cNvSpPr txBox="1"/>
          <p:nvPr/>
        </p:nvSpPr>
        <p:spPr>
          <a:xfrm>
            <a:off x="7308720" y="270828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WordArt 14"/>
          <p:cNvSpPr txBox="1"/>
          <p:nvPr/>
        </p:nvSpPr>
        <p:spPr>
          <a:xfrm>
            <a:off x="7323120" y="3065400"/>
            <a:ext cx="358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7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" name="WordArt 15"/>
          <p:cNvSpPr txBox="1"/>
          <p:nvPr/>
        </p:nvSpPr>
        <p:spPr>
          <a:xfrm>
            <a:off x="7524720" y="3805200"/>
            <a:ext cx="43200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14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" name="WordArt 16"/>
          <p:cNvSpPr txBox="1"/>
          <p:nvPr/>
        </p:nvSpPr>
        <p:spPr>
          <a:xfrm>
            <a:off x="7667640" y="4187880"/>
            <a:ext cx="360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2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WordArt 18"/>
          <p:cNvSpPr txBox="1"/>
          <p:nvPr/>
        </p:nvSpPr>
        <p:spPr>
          <a:xfrm>
            <a:off x="7337520" y="5589720"/>
            <a:ext cx="360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TextBox 16"/>
          <p:cNvSpPr/>
          <p:nvPr/>
        </p:nvSpPr>
        <p:spPr>
          <a:xfrm>
            <a:off x="684360" y="54936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дите  ошиб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33cc"/>
                </a:solidFill>
                <a:uFillTx/>
                <a:latin typeface="Times New Roman"/>
              </a:rPr>
              <a:t>Правильно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 – </a:t>
            </a:r>
            <a:r>
              <a:rPr b="1" lang="ru-RU" sz="4000" spc="-1" strike="noStrike" u="sng">
                <a:solidFill>
                  <a:srgbClr val="ff3300"/>
                </a:solidFill>
                <a:uFillTx/>
                <a:latin typeface="Times New Roman"/>
              </a:rPr>
              <a:t>присесть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br>
              <a:rPr sz="4000"/>
            </a:br>
            <a:r>
              <a:rPr b="1" lang="ru-RU" sz="4000" spc="-1" strike="noStrike" u="sng">
                <a:solidFill>
                  <a:srgbClr val="3333cc"/>
                </a:solidFill>
                <a:uFillTx/>
                <a:latin typeface="Times New Roman"/>
              </a:rPr>
              <a:t>Неправильно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 – </a:t>
            </a:r>
            <a:r>
              <a:rPr b="1" lang="ru-RU" sz="4000" spc="-1" strike="noStrike" u="sng">
                <a:solidFill>
                  <a:srgbClr val="ff3300"/>
                </a:solidFill>
                <a:uFillTx/>
                <a:latin typeface="Times New Roman"/>
              </a:rPr>
              <a:t>встать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Запи2028.WAV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9" name="Object 7"/>
              <p:cNvSpPr txBox="1"/>
              <p:nvPr/>
            </p:nvSpPr>
            <p:spPr>
              <a:xfrm>
                <a:off x="-49320" y="1606680"/>
                <a:ext cx="9175680" cy="24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9"/>
              <p:cNvSpPr txBox="1"/>
              <p:nvPr/>
            </p:nvSpPr>
            <p:spPr>
              <a:xfrm>
                <a:off x="130320" y="1573200"/>
                <a:ext cx="885168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13"/>
              <p:cNvSpPr txBox="1"/>
              <p:nvPr/>
            </p:nvSpPr>
            <p:spPr>
              <a:xfrm>
                <a:off x="109440" y="1487520"/>
                <a:ext cx="8740800" cy="23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15"/>
              <p:cNvSpPr txBox="1"/>
              <p:nvPr/>
            </p:nvSpPr>
            <p:spPr>
              <a:xfrm>
                <a:off x="0" y="1657440"/>
                <a:ext cx="9144000" cy="19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16"/>
              <p:cNvSpPr txBox="1"/>
              <p:nvPr/>
            </p:nvSpPr>
            <p:spPr>
              <a:xfrm>
                <a:off x="81000" y="1581120"/>
                <a:ext cx="8928000" cy="21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17"/>
              <p:cNvSpPr txBox="1"/>
              <p:nvPr/>
            </p:nvSpPr>
            <p:spPr>
              <a:xfrm>
                <a:off x="130320" y="1573200"/>
                <a:ext cx="8723160" cy="244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: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18"/>
              <p:cNvSpPr txBox="1"/>
              <p:nvPr/>
            </p:nvSpPr>
            <p:spPr>
              <a:xfrm>
                <a:off x="17640" y="1693800"/>
                <a:ext cx="9043920" cy="25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8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6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4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82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190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98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981080"/>
            <a:ext cx="77738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</a:rPr>
              <a:t>На столе лежат  карточки «Плюс», «Минус», «Ноль». «Плюс» желтого цве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</a:rPr>
              <a:t>(Жёлтый цвет – это цвет позитива, оптимизма, молодост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</a:rPr>
              <a:t>«Минус»  коричневого цв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</a:rPr>
              <a:t>(Коричневый цвет ассоциируется с ленью, кажется скучным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</a:rPr>
              <a:t>«Нуль»  белого цве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</a:rPr>
              <a:t>(Белый – цвет снега, молока. Белый цвет – нейтральный и чистый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4796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4114440"/>
            <a:ext cx="77738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796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Прямоугольник 6"/>
          <p:cNvSpPr/>
          <p:nvPr/>
        </p:nvSpPr>
        <p:spPr>
          <a:xfrm>
            <a:off x="1619280" y="76500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</a:rPr>
              <a:t>Рефлексия "Плюс – минус – нул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1258920" y="4508640"/>
            <a:ext cx="1324080" cy="1209600"/>
          </a:xfrm>
          <a:prstGeom prst="plus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6227640" y="4581360"/>
            <a:ext cx="1657440" cy="695520"/>
          </a:xfrm>
          <a:prstGeom prst="rect">
            <a:avLst/>
          </a:prstGeom>
          <a:solidFill>
            <a:srgbClr val="6224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9"/>
          <p:cNvSpPr/>
          <p:nvPr/>
        </p:nvSpPr>
        <p:spPr>
          <a:xfrm>
            <a:off x="3708360" y="4508640"/>
            <a:ext cx="1150920" cy="1460520"/>
          </a:xfrm>
          <a:custGeom>
            <a:avLst/>
            <a:gdLst>
              <a:gd name="textAreaLeft" fmla="*/ 168480 w 1150920"/>
              <a:gd name="textAreaRight" fmla="*/ 982440 w 1150920"/>
              <a:gd name="textAreaTop" fmla="*/ 213840 h 1460520"/>
              <a:gd name="textAreaBottom" fmla="*/ 1246680 h 1460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4"/>
          <p:cNvSpPr txBox="1"/>
          <p:nvPr/>
        </p:nvSpPr>
        <p:spPr>
          <a:xfrm>
            <a:off x="1042920" y="1773360"/>
            <a:ext cx="720108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030a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асибо за урок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7030a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6" name="Picture 4" descr="C:\Users\школа\Desktop\png-transparent-flower-retro-flower-plant-stem-flower-website.png"/>
          <p:cNvPicPr/>
          <p:nvPr/>
        </p:nvPicPr>
        <p:blipFill>
          <a:blip r:embed="rId1"/>
          <a:stretch/>
        </p:blipFill>
        <p:spPr>
          <a:xfrm>
            <a:off x="539640" y="3860640"/>
            <a:ext cx="1656000" cy="129708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3"/>
          <p:cNvSpPr/>
          <p:nvPr/>
        </p:nvSpPr>
        <p:spPr>
          <a:xfrm>
            <a:off x="2340000" y="3645000"/>
            <a:ext cx="619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«Несомненно,  вы сегодня сами приятно поразились, как много и хорошо умеете, так как старались постоянно работать над собой, ставили новые цели и стремились к их достижению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школа</cp:lastModifiedBy>
  <dcterms:modified xsi:type="dcterms:W3CDTF">2020-12-20T18:12:41Z</dcterms:modified>
  <cp:revision>80</cp:revision>
  <dc:subject/>
  <dc:title>PowerPoint Presentation</dc:title>
</cp:coreProperties>
</file>